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072-16EA-4FFA-AEF7-D4ACE795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A0B-76FB-4EA0-AB14-CAECB983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0704-2B2A-4D27-9349-51E0D001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B6F-9A75-40BA-9D35-939D4A6A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2DA-BB56-4365-948B-CBC3FA41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50A-E4AE-46B6-9486-8485C8B2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314-B37F-4897-8EBA-2A26FF73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864-065B-4DD6-B885-678950AB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1FC-190A-42AE-9FFC-8AE9A490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6E5-D426-4B4D-85D4-D151D485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4C1-62CA-42F8-8245-D8F383DC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E7C-06B1-4C9F-84AE-DAE7413A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4271-87A7-4BAE-9547-0AD499E5E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Logistic Regression Analysis of Matched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ase-Control Data-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Part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077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543800" cy="4952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STATA’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OGI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CEDURE TO CARRY OU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ML ESTIMATION OF MATCHED DATA USING LOGISTIC REGRES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9800" y="565200"/>
            <a:ext cx="82044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94840" cy="4952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5486400"/>
            <a:ext cx="82296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57913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logit  case  est  gall  [fweight=wgt],  strata(strat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7360" y="1295280"/>
            <a:ext cx="8369280" cy="5105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744480"/>
            <a:ext cx="8382240" cy="63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29200" y="1600200"/>
            <a:ext cx="3301920" cy="939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1066680"/>
            <a:ext cx="67816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logit  case  est  gall   [fweight=wgt],  strata(stratum) 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35640" y="457200"/>
            <a:ext cx="522504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W LOGISTIC MODEL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458200" cy="193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E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6705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204040" cy="4648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5257800"/>
            <a:ext cx="7924680" cy="847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7240" y="1447920"/>
            <a:ext cx="5231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logit  case  est  [fweight=wgt],  strata(strat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1520" y="1143000"/>
            <a:ext cx="7860960" cy="4495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9480" y="5562720"/>
            <a:ext cx="7925040" cy="847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09480" y="277920"/>
            <a:ext cx="7848720" cy="917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257800" y="1676520"/>
            <a:ext cx="26668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14400" y="1066680"/>
            <a:ext cx="556272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logit  case  est  [fweight=wgt],  strata(stratum) 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423720"/>
            <a:ext cx="800100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SS does not perform conditional logistic regression except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al 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there is only one case per stratum, with one or more contro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SS survival analysis procedure COXREG can be used to obtain coefficient estimates equivalent to running a conditional logistic regress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is similar to that demonstrated for SAS with PROC PHREG and the GALL dataset, although SAS is not limited to the special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990720"/>
            <a:ext cx="8077320" cy="44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ith SAS,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must be created in the data, coded to indicate that all cases had the event at the same time, and all controls were censored at a later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GALL dataset, th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is nam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SPSS dataset Is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ll.sav.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229600" cy="606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SS</a:t>
            </a:r>
            <a:r>
              <a:rPr b="0" lang="en-US" sz="2400" spc="-1" strike="noStrike">
                <a:solidFill>
                  <a:srgbClr val="000000"/>
                </a:solidFill>
                <a:latin typeface="SAS Monospace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am code fo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ll.s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set (assuming one line of data for each subject, I.e., no weight variable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S Monospace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FILE='A:gall.sav'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COX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survt  /STATUS=case(1)  /STRATA=stra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/METHOD=ENTER  est  g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SAS Monospace"/>
              </a:rPr>
              <a:t>/CRITERIA=PIN(.05) POUT(.10) ITERATE(20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statement contains the time variabl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llowed by a backslash and the case status variabl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the value for cas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parenth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762120"/>
            <a:ext cx="7467480" cy="5257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SAS’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E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CEDURE TO CARRY OU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ML ESTIMATION OF MATCHED DATA USING LOGISTIC REGRES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cp:lastPrinted>2002-07-03T15:05:41Z</cp:lastPrinted>
  <dcterms:modified xsi:type="dcterms:W3CDTF">2002-07-03T15:24:32Z</dcterms:modified>
  <cp:revision>107</cp:revision>
  <dc:subject/>
  <dc:title>The Art in the State of the Art</dc:title>
</cp:coreProperties>
</file>